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493C-0A03-4382-A7BC-4FC827FFB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B607-720F-4770-9F1D-A67EAC055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D4B3-3EDA-40AE-8303-ECBD09C81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6260-C449-4A33-AEEA-1B99DB632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A8BE-5512-4C28-993B-8FE7ED749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91C9-2B7D-458B-B80A-1B8FFEDC6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F620-22DC-4E9A-BB94-055DA1549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1B48-2330-4BB4-BE95-43E4EB344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1EBB-A44E-4055-8449-BB05BE908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F97D-A33E-4C4E-BDC9-AE417297D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8156-464A-40EC-A52B-FC5D595B9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FE71-82F8-4653-94DF-78EEADDCF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2378-D710-43AB-B2CA-EEA9E465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2DD-CE75-4148-8B3D-F81621F5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9CE-4C35-43E2-84B3-01C8A4A3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6B1-549E-41B8-A3A2-F6A7A160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CD26-06DE-4ECF-BD25-1FF28EA9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1123-8173-4ABA-8D92-DCE5D098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73A2-383A-481D-BADD-409EB70F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ECF1-1772-4AA1-BF24-8D6EDE9F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8501-0605-4900-8759-5484371F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70AA-BC84-4901-8E8A-22DF66CD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D5AC-BAD9-40EC-8AAD-86BBB033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29D-C80E-4C52-943D-DE0EED2A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CAEE-4D7F-4919-B47B-837EF101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C2F5-804D-4806-979E-22F3A24C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27C9-E8C9-4E8F-AEC6-38AFBA30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11B8-13D3-471B-8454-E9E76A62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396E-C5CB-4FC2-BABA-D6D411FA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353-FD51-4E9B-87D4-1483760C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6BDC-D45E-4458-8458-867EA7C5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D42-F281-4CB4-AAEC-54496091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D3B-1452-4EB1-8161-7BBC81DB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73B-019C-47DC-A300-95E267E6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CF1-CDC9-4194-8578-7385884E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722-D6D0-4A9F-82C4-59999C6F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A6C6-0728-4746-AFE1-CFAD7FB608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2F24-F2F3-4415-B9CB-B3454CC714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ichi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else can you do 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how much reactant is in excess once the reaction is carri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 Calculate the actual amount of the excess reactant that is required by using the given quantity of the limiting reacta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 Calculate the difference between the amount of the excess reactant required and the amount that is give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0" y="762120"/>
            <a:ext cx="9144000" cy="65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lorine is used by textile manufacturers to bleach cloth.  Excess chlorine is destroyed by its reaction with sodium thiosulfate,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__N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+ __C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+ __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__NaHS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+ __HC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 is the mole ratio N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C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the balanced chemical equatio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 many grams sodium thiosulfate is needed to completely destroy 103g of chlorin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s 75g of N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adequate quantity to destroy 35g of C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ich reactant is in excess?  And how much is left over after the reaction occur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cent Yiel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ichiometric calculations provide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oretical 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maximum amount of product that can be produced from a given amount of reactan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ual 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mount that is actually produced when a reaction is carried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cent 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lects the ratio of the theoretical and actual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838080" y="5715000"/>
                <a:ext cx="74678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cent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Yiel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xperimen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heoreticalYiel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oichiometr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cent Yield Probl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anol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) is produced from the fermentation of sucr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theoretical and percent yields of ethanol if 684g sucrose undergoes fermentation and 349g of ethanol are obt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609480" y="2743200"/>
                <a:ext cx="61405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0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Top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on of mass and the balanced chemica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 ratios in a chemica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ichiometric calculations involving reactants an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Rea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Stoichiometr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ichiometry is the study of quantitative relationships between amounts of reactants used and products formed by a chemical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l_product_image"/>
          <p:cNvPicPr/>
          <p:nvPr/>
        </p:nvPicPr>
        <p:blipFill>
          <a:blip r:embed="rId1"/>
          <a:stretch/>
        </p:blipFill>
        <p:spPr>
          <a:xfrm>
            <a:off x="2666880" y="3556080"/>
            <a:ext cx="342900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ctical Applications of Stoichiomet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spacecraft, the carbon dioxide exhaled by astronauts can be removed by its reaction with lithium hydroxide, LiOH, according to the following chemical equatio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+ 2LiOH(s) 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l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les of lithium hydroxide are required to react with 20 mol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average amount exhaled by a person each d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39625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ategy – Relate everything to the mo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mole01"/>
          <p:cNvPicPr/>
          <p:nvPr/>
        </p:nvPicPr>
        <p:blipFill>
          <a:blip r:embed="rId1"/>
          <a:stretch/>
        </p:blipFill>
        <p:spPr>
          <a:xfrm>
            <a:off x="6019920" y="1371600"/>
            <a:ext cx="2971800" cy="2048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533520" y="19051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le is the common thread that links reactants to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838080" y="365760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+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H(s)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) +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41148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3962520" y="4495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2"/>
              <p:cNvSpPr txBox="1"/>
              <p:nvPr/>
            </p:nvSpPr>
            <p:spPr>
              <a:xfrm>
                <a:off x="457200" y="5181480"/>
                <a:ext cx="1523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LiO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3"/>
              <p:cNvSpPr txBox="1"/>
              <p:nvPr/>
            </p:nvSpPr>
            <p:spPr>
              <a:xfrm>
                <a:off x="2057400" y="5181480"/>
                <a:ext cx="16016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4"/>
              <p:cNvSpPr txBox="1"/>
              <p:nvPr/>
            </p:nvSpPr>
            <p:spPr>
              <a:xfrm>
                <a:off x="3849840" y="5143680"/>
                <a:ext cx="12920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5"/>
              <p:cNvSpPr txBox="1"/>
              <p:nvPr/>
            </p:nvSpPr>
            <p:spPr>
              <a:xfrm>
                <a:off x="5219640" y="5143680"/>
                <a:ext cx="16020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LiOH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6"/>
              <p:cNvSpPr txBox="1"/>
              <p:nvPr/>
            </p:nvSpPr>
            <p:spPr>
              <a:xfrm>
                <a:off x="7012080" y="5105520"/>
                <a:ext cx="15224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LiOH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Mole Super Highw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895480" y="3886200"/>
            <a:ext cx="78120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244520" y="5394240"/>
            <a:ext cx="81288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066680" y="19051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1717200" y="4219560"/>
            <a:ext cx="1351080" cy="117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V="1">
            <a:off x="1919160" y="4289400"/>
            <a:ext cx="1257480" cy="10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2205000" y="2322360"/>
            <a:ext cx="1047960" cy="160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 flipH="1" flipV="1">
            <a:off x="2271600" y="2206800"/>
            <a:ext cx="1038240" cy="164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09480" y="4395960"/>
            <a:ext cx="163692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molar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609480" y="3067200"/>
            <a:ext cx="2019600" cy="30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6.02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5715000" y="3809880"/>
            <a:ext cx="86688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750080" y="5308560"/>
            <a:ext cx="78444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7261200" y="2038320"/>
            <a:ext cx="11970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6154560" y="4238640"/>
            <a:ext cx="1581480" cy="11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 flipH="1" flipV="1">
            <a:off x="6214680" y="4146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 flipH="1">
            <a:off x="6072120" y="2370240"/>
            <a:ext cx="1209600" cy="14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6157800" y="2396880"/>
            <a:ext cx="1228680" cy="14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7010280" y="4281480"/>
            <a:ext cx="160020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molar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6829560" y="3171960"/>
            <a:ext cx="201924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6.02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4162320" y="4344840"/>
            <a:ext cx="12286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6"/>
          <p:cNvSpPr/>
          <p:nvPr/>
        </p:nvSpPr>
        <p:spPr>
          <a:xfrm>
            <a:off x="3581280" y="40384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7"/>
          <p:cNvSpPr/>
          <p:nvPr/>
        </p:nvSpPr>
        <p:spPr>
          <a:xfrm flipH="1">
            <a:off x="3580920" y="4191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4495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ass of oxygen is needed to fully combust 12.5g ethane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752480" y="4952880"/>
                <a:ext cx="4978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actice Proble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09480" y="1371600"/>
            <a:ext cx="7696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moles of water are formed when 3.8 moles of Hydrogen react with an excess of Oxy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mass of the water form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miting Reacta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reactions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57200" y="2057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 all of the reactants get used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33520" y="2666880"/>
            <a:ext cx="816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miting React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mit the extent of the reaction and thereby determines the amount of the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over reactants are call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cess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07-Tam-line-out-boys"/>
          <p:cNvPicPr/>
          <p:nvPr/>
        </p:nvPicPr>
        <p:blipFill>
          <a:blip r:embed="rId1"/>
          <a:stretch/>
        </p:blipFill>
        <p:spPr>
          <a:xfrm>
            <a:off x="1143000" y="43434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News1_4"/>
          <p:cNvPicPr/>
          <p:nvPr/>
        </p:nvPicPr>
        <p:blipFill>
          <a:blip r:embed="rId2"/>
          <a:stretch/>
        </p:blipFill>
        <p:spPr>
          <a:xfrm>
            <a:off x="4800600" y="4357800"/>
            <a:ext cx="243828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do you determine which reactant is limited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200g of sulfur reacts with 100g of chlorine, what mass of disulfur dichloride is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moles of the reactants based on their m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if the two reactants are in the correct mole ratio as given by the balanced chemical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number of moles of the limiting reaction as your given value to calculate the mass of the product that could be pro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2590920" y="1143000"/>
                <a:ext cx="36702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1:59:06Z</dcterms:created>
  <dc:creator>Dawn Pav</dc:creator>
  <dc:description/>
  <dc:language>en-US</dc:language>
  <cp:lastModifiedBy>Dawn</cp:lastModifiedBy>
  <dcterms:modified xsi:type="dcterms:W3CDTF">2011-04-24T16:36:14Z</dcterms:modified>
  <cp:revision>10</cp:revision>
  <dc:subject/>
  <dc:title>Chapter 12</dc:title>
</cp:coreProperties>
</file>